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853-590B-4A56-807B-75A2F4C5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35D-531B-421B-9B7A-18D9F02C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65B-873B-48FD-8BED-3A0500B5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9D8-61EA-4438-8BCB-D1C94A5D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1C5-3A1E-4502-BE45-3ECD1268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1B8-5A47-4B19-B0D6-4E7F2BF9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E33-455C-4F38-AFBB-7B8CEF8A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329-432C-4A93-ABE7-C0A80A2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58E-E9CC-44DC-AD78-A12F94A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336-2E76-4590-94DA-3D3D627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22C-518E-4A8E-B147-8E5E9FE9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465-D906-41A4-9197-F2F1E4C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F748-94A7-496E-8D71-53579F7F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thsisfun.com/algebra/substitution.html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h.com/school/subject1/lessons/S1U4L4GL.html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Jokerman"/>
              </a:rPr>
              <a:t>BELL RING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Jokerman"/>
              <a:ea typeface="Joker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514600" cy="296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67280" y="304920"/>
            <a:ext cx="266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ambria Math"/>
              </a:rPr>
              <a:t>Lesson 2-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ambria Math"/>
              <a:ea typeface="Cambria Math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828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111 #16-27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More 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85800" y="2057400"/>
                <a:ext cx="39513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09480" y="3276720"/>
                <a:ext cx="48564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520" y="4572000"/>
                <a:ext cx="45338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676520" y="1371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and SAME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5800" y="1981080"/>
                <a:ext cx="49212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09480" y="3505320"/>
                <a:ext cx="531360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 ALGEBRA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876920"/>
                <a:ext cx="78483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76520" y="1752480"/>
                <a:ext cx="6019560" cy="28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How To Substitu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371600"/>
            <a:ext cx="7238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kim through this Sit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sisfun.com/algebra/substitution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800" y="3505320"/>
                <a:ext cx="769608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33520" y="2133720"/>
                <a:ext cx="15620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71800" y="2438280"/>
                <a:ext cx="1676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943600" y="2438280"/>
                <a:ext cx="1371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00200" y="919080"/>
                <a:ext cx="27432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828800" y="2133720"/>
                <a:ext cx="4495680" cy="37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876920" y="914400"/>
                <a:ext cx="22860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0"/>
            <a:ext cx="83059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 81 #16 – 38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82 #42 – 48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/C (A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438280"/>
            <a:ext cx="8534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 THIS IN YOUR DISSC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me what you learned toda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you don’t know the Integer Ru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36232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and DIVID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INTEGER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GUY vs. BAD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3809880" cy="1447920"/>
          </a:xfrm>
          <a:prstGeom prst="rect">
            <a:avLst/>
          </a:prstGeom>
          <a:ln w="0">
            <a:noFill/>
          </a:ln>
        </p:spPr>
      </p:pic>
      <p:sp>
        <p:nvSpPr>
          <p:cNvPr id="52" name="Isosceles Triangle 4"/>
          <p:cNvSpPr/>
          <p:nvPr/>
        </p:nvSpPr>
        <p:spPr>
          <a:xfrm rot="10800000">
            <a:off x="3123720" y="1447560"/>
            <a:ext cx="5867640" cy="3962160"/>
          </a:xfrm>
          <a:prstGeom prst="triangle">
            <a:avLst>
              <a:gd name="adj" fmla="val 50000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Owner\AppData\Local\Microsoft\Windows\Temporary Internet Files\Content.IE5\R3O005QE\MC900432531[1].png"/>
          <p:cNvPicPr/>
          <p:nvPr/>
        </p:nvPicPr>
        <p:blipFill>
          <a:blip r:embed="rId2"/>
          <a:stretch/>
        </p:blipFill>
        <p:spPr>
          <a:xfrm>
            <a:off x="5486400" y="3581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Owner\AppData\Local\Microsoft\Windows\Temporary Internet Files\Content.IE5\ZA5CTEV1\MC910216403[1].png"/>
          <p:cNvPicPr/>
          <p:nvPr/>
        </p:nvPicPr>
        <p:blipFill>
          <a:blip r:embed="rId3"/>
          <a:stretch/>
        </p:blipFill>
        <p:spPr>
          <a:xfrm>
            <a:off x="3886200" y="1600200"/>
            <a:ext cx="126684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Owner\AppData\Local\Microsoft\Windows\Temporary Internet Files\Content.IE5\ZA5CTEV1\MC910216403[1].png"/>
          <p:cNvPicPr/>
          <p:nvPr/>
        </p:nvPicPr>
        <p:blipFill>
          <a:blip r:embed="rId4"/>
          <a:stretch/>
        </p:blipFill>
        <p:spPr>
          <a:xfrm>
            <a:off x="6934320" y="1600200"/>
            <a:ext cx="126684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1"/>
          <p:cNvSpPr/>
          <p:nvPr/>
        </p:nvSpPr>
        <p:spPr>
          <a:xfrm flipH="1">
            <a:off x="6019920" y="5423040"/>
            <a:ext cx="38160" cy="144756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4191120" y="5562720"/>
            <a:ext cx="1790640" cy="60948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6"/>
          <p:cNvSpPr/>
          <p:nvPr/>
        </p:nvSpPr>
        <p:spPr>
          <a:xfrm flipH="1">
            <a:off x="6019920" y="5257800"/>
            <a:ext cx="1828800" cy="99072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30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261468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eople! I'm going to tell you about myself. First of all I'm zero, which isn't a positive or a negative. My friends are positives and negatives though..let me tell you about them thou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- when you multiply integers with same sign, do normal multiplication and the sign of the answer is positive 3 x 4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, do normal multiplication and the sign of the answer is positive (-3) x (-4)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s, do normal multiplication and the sign of the answer is negative 3 x (-4) = -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3) x (4) = -12 -the rules in multiplication are the same rules applying to division, except of course you have to change the sign to divi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 well...im zero. Zero is never negative or positive so yeah....By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14600" y="53352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3059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sign = POSI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sign =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e Rule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ultiply decimal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numbers just as if they were whol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up the numbers on the right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align the decimal 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on the right, multiply each digit in the top number by each digit in the bottom number, just as with whole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produ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decimal point in the answer by starting at the right and moving a number of places equal to the sum of the decimal places in both numbers multipli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3809880"/>
            <a:ext cx="3353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" y="1905120"/>
                <a:ext cx="2319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2590920"/>
            <a:ext cx="74678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.0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   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00  Notice there are four total numbers after the decimal so you will need to move the decimal, 4 places to the left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answer is .4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522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Fraction Exa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1371600"/>
            <a:ext cx="72388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explanation on multiplying fractions, click on this link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.com/school/subject1/lessons/S1U4L4GL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480" y="3200400"/>
                <a:ext cx="35830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80880" y="632448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74320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y to solve is to multiply across the top and bottom, than reduce if possi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572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y to solve is cross reduce than multi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57200" y="5029200"/>
                <a:ext cx="72342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More 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95280" y="1752480"/>
                <a:ext cx="56340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04920" y="3429000"/>
                <a:ext cx="80769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25:21Z</dcterms:created>
  <dc:creator>rasmusa</dc:creator>
  <dc:description/>
  <dc:language>en-US</dc:language>
  <cp:lastModifiedBy>SCSCHOOLS</cp:lastModifiedBy>
  <dcterms:modified xsi:type="dcterms:W3CDTF">2010-09-27T18:40:06Z</dcterms:modified>
  <cp:revision>13</cp:revision>
  <dc:subject/>
  <dc:title>Slide 1</dc:title>
</cp:coreProperties>
</file>